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653213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9B9-7E3B-4B9D-91A4-0ED883F6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EBB-53B1-4CCC-9F24-CAEFA257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46C-5112-464B-AACC-77E512DD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066-8BE7-41AE-A0C2-705671DB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F52-FDA6-40F1-8ED2-C4DB89F7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938-252F-490C-ABA4-ECBD0A5F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EC5-7845-4853-9B8A-F16E2CD5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D0F-6963-4A88-84FE-0545B5E3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7AC-5E0B-4286-A88F-79B6C343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C44-F87F-4B37-BACA-547B136D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E3F-5002-4613-963B-61FD6B77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9D8-8BC8-450F-9C16-B7F8ABD3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1F95-BCAD-4AB2-87AC-11EDBD281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Mark.sanders@dti.gsi.gov.uk" TargetMode="External"/><Relationship Id="rId2" Type="http://schemas.openxmlformats.org/officeDocument/2006/relationships/hyperlink" Target="mailto:Stewart.robinson@dti.gsi.gov.uk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development of the UKOOA EEMS datab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wart Robi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nsing and Consents 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76720" y="30492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6800" y="1447920"/>
            <a:ext cx="271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f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mis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52280"/>
            <a:ext cx="8229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160020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152388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312408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312408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905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27432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9144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5909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105520"/>
            <a:ext cx="79250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4419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495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4495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2895480"/>
            <a:ext cx="80010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838080"/>
            <a:ext cx="16002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57200"/>
            <a:ext cx="16002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457200"/>
            <a:ext cx="16002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85800"/>
            <a:ext cx="16002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3623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0574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1337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23623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2560" y="101520"/>
            <a:ext cx="189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2895480"/>
            <a:ext cx="80010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838080"/>
            <a:ext cx="16002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57200"/>
            <a:ext cx="16002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457200"/>
            <a:ext cx="16002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685800"/>
            <a:ext cx="160020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8006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8006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05360" y="4994280"/>
            <a:ext cx="14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23623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20574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1337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8720" y="23623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4267080"/>
            <a:ext cx="3812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267080"/>
            <a:ext cx="3812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26708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560" y="101520"/>
            <a:ext cx="189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895480" y="2971800"/>
            <a:ext cx="2285280" cy="2663280"/>
            <a:chOff x="2895480" y="2971800"/>
            <a:chExt cx="2285280" cy="2663280"/>
          </a:xfrm>
        </p:grpSpPr>
        <p:sp>
          <p:nvSpPr>
            <p:cNvPr id="121" name=""/>
            <p:cNvSpPr/>
            <p:nvPr/>
          </p:nvSpPr>
          <p:spPr>
            <a:xfrm>
              <a:off x="3012840" y="2971800"/>
              <a:ext cx="2167920" cy="2663280"/>
            </a:xfrm>
            <a:custGeom>
              <a:avLst/>
              <a:gdLst/>
              <a:ahLst/>
              <a:rect l="l" t="t" r="r" b="b"/>
              <a:pathLst>
                <a:path w="569" h="814">
                  <a:moveTo>
                    <a:pt x="282" y="1"/>
                  </a:moveTo>
                  <a:cubicBezTo>
                    <a:pt x="273" y="0"/>
                    <a:pt x="277" y="80"/>
                    <a:pt x="260" y="119"/>
                  </a:cubicBezTo>
                  <a:cubicBezTo>
                    <a:pt x="243" y="158"/>
                    <a:pt x="208" y="202"/>
                    <a:pt x="180" y="235"/>
                  </a:cubicBezTo>
                  <a:cubicBezTo>
                    <a:pt x="152" y="268"/>
                    <a:pt x="116" y="296"/>
                    <a:pt x="93" y="320"/>
                  </a:cubicBezTo>
                  <a:cubicBezTo>
                    <a:pt x="70" y="344"/>
                    <a:pt x="58" y="357"/>
                    <a:pt x="45" y="377"/>
                  </a:cubicBezTo>
                  <a:cubicBezTo>
                    <a:pt x="32" y="397"/>
                    <a:pt x="21" y="422"/>
                    <a:pt x="14" y="442"/>
                  </a:cubicBezTo>
                  <a:cubicBezTo>
                    <a:pt x="7" y="462"/>
                    <a:pt x="4" y="481"/>
                    <a:pt x="2" y="500"/>
                  </a:cubicBezTo>
                  <a:cubicBezTo>
                    <a:pt x="0" y="519"/>
                    <a:pt x="1" y="535"/>
                    <a:pt x="3" y="554"/>
                  </a:cubicBezTo>
                  <a:cubicBezTo>
                    <a:pt x="5" y="573"/>
                    <a:pt x="5" y="593"/>
                    <a:pt x="12" y="613"/>
                  </a:cubicBezTo>
                  <a:cubicBezTo>
                    <a:pt x="19" y="633"/>
                    <a:pt x="32" y="657"/>
                    <a:pt x="44" y="676"/>
                  </a:cubicBezTo>
                  <a:cubicBezTo>
                    <a:pt x="56" y="695"/>
                    <a:pt x="67" y="711"/>
                    <a:pt x="83" y="727"/>
                  </a:cubicBezTo>
                  <a:cubicBezTo>
                    <a:pt x="99" y="743"/>
                    <a:pt x="121" y="763"/>
                    <a:pt x="141" y="775"/>
                  </a:cubicBezTo>
                  <a:cubicBezTo>
                    <a:pt x="161" y="787"/>
                    <a:pt x="180" y="796"/>
                    <a:pt x="206" y="802"/>
                  </a:cubicBezTo>
                  <a:cubicBezTo>
                    <a:pt x="232" y="808"/>
                    <a:pt x="266" y="814"/>
                    <a:pt x="296" y="812"/>
                  </a:cubicBezTo>
                  <a:cubicBezTo>
                    <a:pt x="326" y="810"/>
                    <a:pt x="360" y="802"/>
                    <a:pt x="386" y="793"/>
                  </a:cubicBezTo>
                  <a:cubicBezTo>
                    <a:pt x="412" y="784"/>
                    <a:pt x="434" y="770"/>
                    <a:pt x="455" y="755"/>
                  </a:cubicBezTo>
                  <a:cubicBezTo>
                    <a:pt x="476" y="740"/>
                    <a:pt x="494" y="721"/>
                    <a:pt x="509" y="701"/>
                  </a:cubicBezTo>
                  <a:cubicBezTo>
                    <a:pt x="524" y="681"/>
                    <a:pt x="536" y="659"/>
                    <a:pt x="545" y="637"/>
                  </a:cubicBezTo>
                  <a:cubicBezTo>
                    <a:pt x="554" y="615"/>
                    <a:pt x="563" y="594"/>
                    <a:pt x="566" y="568"/>
                  </a:cubicBezTo>
                  <a:cubicBezTo>
                    <a:pt x="569" y="542"/>
                    <a:pt x="568" y="508"/>
                    <a:pt x="563" y="481"/>
                  </a:cubicBezTo>
                  <a:cubicBezTo>
                    <a:pt x="558" y="454"/>
                    <a:pt x="549" y="429"/>
                    <a:pt x="536" y="406"/>
                  </a:cubicBezTo>
                  <a:cubicBezTo>
                    <a:pt x="523" y="383"/>
                    <a:pt x="504" y="361"/>
                    <a:pt x="486" y="341"/>
                  </a:cubicBezTo>
                  <a:cubicBezTo>
                    <a:pt x="468" y="321"/>
                    <a:pt x="445" y="306"/>
                    <a:pt x="426" y="286"/>
                  </a:cubicBezTo>
                  <a:cubicBezTo>
                    <a:pt x="407" y="266"/>
                    <a:pt x="390" y="247"/>
                    <a:pt x="371" y="220"/>
                  </a:cubicBezTo>
                  <a:cubicBezTo>
                    <a:pt x="352" y="193"/>
                    <a:pt x="326" y="160"/>
                    <a:pt x="312" y="124"/>
                  </a:cubicBezTo>
                  <a:cubicBezTo>
                    <a:pt x="298" y="88"/>
                    <a:pt x="291" y="2"/>
                    <a:pt x="282" y="1"/>
                  </a:cubicBez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80600" y="3930480"/>
              <a:ext cx="1829160" cy="1571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37440" y="4296960"/>
              <a:ext cx="709200" cy="87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2793960" y="4466520"/>
              <a:ext cx="1131480" cy="517320"/>
            </a:xfrm>
            <a:custGeom>
              <a:avLst/>
              <a:gdLst>
                <a:gd name="textAreaLeft" fmla="*/ 156240 w 1131480"/>
                <a:gd name="textAreaRight" fmla="*/ 975240 w 1131480"/>
                <a:gd name="textAreaTop" fmla="*/ 71280 h 517320"/>
                <a:gd name="textAreaBottom" fmla="*/ 44604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76" y="21600"/>
                  </a:lnTo>
                  <a:lnTo>
                    <a:pt x="22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5480" y="4172400"/>
              <a:ext cx="178560" cy="112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899280" y="816120"/>
            <a:ext cx="656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UK OIL POR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228600"/>
            <a:ext cx="15238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486400"/>
            <a:ext cx="15238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209680"/>
            <a:ext cx="64767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 OIL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72428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44792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38080" y="2743200"/>
            <a:ext cx="952200" cy="1292040"/>
            <a:chOff x="838080" y="2743200"/>
            <a:chExt cx="952200" cy="1292040"/>
          </a:xfrm>
        </p:grpSpPr>
        <p:sp>
          <p:nvSpPr>
            <p:cNvPr id="134" name=""/>
            <p:cNvSpPr/>
            <p:nvPr/>
          </p:nvSpPr>
          <p:spPr>
            <a:xfrm>
              <a:off x="887040" y="2743200"/>
              <a:ext cx="903240" cy="1292040"/>
            </a:xfrm>
            <a:custGeom>
              <a:avLst/>
              <a:gdLst/>
              <a:ahLst/>
              <a:rect l="l" t="t" r="r" b="b"/>
              <a:pathLst>
                <a:path w="569" h="814">
                  <a:moveTo>
                    <a:pt x="282" y="1"/>
                  </a:moveTo>
                  <a:cubicBezTo>
                    <a:pt x="273" y="0"/>
                    <a:pt x="277" y="80"/>
                    <a:pt x="260" y="119"/>
                  </a:cubicBezTo>
                  <a:cubicBezTo>
                    <a:pt x="243" y="158"/>
                    <a:pt x="208" y="202"/>
                    <a:pt x="180" y="235"/>
                  </a:cubicBezTo>
                  <a:cubicBezTo>
                    <a:pt x="152" y="268"/>
                    <a:pt x="116" y="296"/>
                    <a:pt x="93" y="320"/>
                  </a:cubicBezTo>
                  <a:cubicBezTo>
                    <a:pt x="70" y="344"/>
                    <a:pt x="58" y="357"/>
                    <a:pt x="45" y="377"/>
                  </a:cubicBezTo>
                  <a:cubicBezTo>
                    <a:pt x="32" y="397"/>
                    <a:pt x="21" y="422"/>
                    <a:pt x="14" y="442"/>
                  </a:cubicBezTo>
                  <a:cubicBezTo>
                    <a:pt x="7" y="462"/>
                    <a:pt x="4" y="481"/>
                    <a:pt x="2" y="500"/>
                  </a:cubicBezTo>
                  <a:cubicBezTo>
                    <a:pt x="0" y="519"/>
                    <a:pt x="1" y="535"/>
                    <a:pt x="3" y="554"/>
                  </a:cubicBezTo>
                  <a:cubicBezTo>
                    <a:pt x="5" y="573"/>
                    <a:pt x="5" y="593"/>
                    <a:pt x="12" y="613"/>
                  </a:cubicBezTo>
                  <a:cubicBezTo>
                    <a:pt x="19" y="633"/>
                    <a:pt x="32" y="657"/>
                    <a:pt x="44" y="676"/>
                  </a:cubicBezTo>
                  <a:cubicBezTo>
                    <a:pt x="56" y="695"/>
                    <a:pt x="67" y="711"/>
                    <a:pt x="83" y="727"/>
                  </a:cubicBezTo>
                  <a:cubicBezTo>
                    <a:pt x="99" y="743"/>
                    <a:pt x="121" y="763"/>
                    <a:pt x="141" y="775"/>
                  </a:cubicBezTo>
                  <a:cubicBezTo>
                    <a:pt x="161" y="787"/>
                    <a:pt x="180" y="796"/>
                    <a:pt x="206" y="802"/>
                  </a:cubicBezTo>
                  <a:cubicBezTo>
                    <a:pt x="232" y="808"/>
                    <a:pt x="266" y="814"/>
                    <a:pt x="296" y="812"/>
                  </a:cubicBezTo>
                  <a:cubicBezTo>
                    <a:pt x="326" y="810"/>
                    <a:pt x="360" y="802"/>
                    <a:pt x="386" y="793"/>
                  </a:cubicBezTo>
                  <a:cubicBezTo>
                    <a:pt x="412" y="784"/>
                    <a:pt x="434" y="770"/>
                    <a:pt x="455" y="755"/>
                  </a:cubicBezTo>
                  <a:cubicBezTo>
                    <a:pt x="476" y="740"/>
                    <a:pt x="494" y="721"/>
                    <a:pt x="509" y="701"/>
                  </a:cubicBezTo>
                  <a:cubicBezTo>
                    <a:pt x="524" y="681"/>
                    <a:pt x="536" y="659"/>
                    <a:pt x="545" y="637"/>
                  </a:cubicBezTo>
                  <a:cubicBezTo>
                    <a:pt x="554" y="615"/>
                    <a:pt x="563" y="594"/>
                    <a:pt x="566" y="568"/>
                  </a:cubicBezTo>
                  <a:cubicBezTo>
                    <a:pt x="569" y="542"/>
                    <a:pt x="568" y="508"/>
                    <a:pt x="563" y="481"/>
                  </a:cubicBezTo>
                  <a:cubicBezTo>
                    <a:pt x="558" y="454"/>
                    <a:pt x="549" y="429"/>
                    <a:pt x="536" y="406"/>
                  </a:cubicBezTo>
                  <a:cubicBezTo>
                    <a:pt x="523" y="383"/>
                    <a:pt x="504" y="361"/>
                    <a:pt x="486" y="341"/>
                  </a:cubicBezTo>
                  <a:cubicBezTo>
                    <a:pt x="468" y="321"/>
                    <a:pt x="445" y="306"/>
                    <a:pt x="426" y="286"/>
                  </a:cubicBezTo>
                  <a:cubicBezTo>
                    <a:pt x="407" y="266"/>
                    <a:pt x="390" y="247"/>
                    <a:pt x="371" y="220"/>
                  </a:cubicBezTo>
                  <a:cubicBezTo>
                    <a:pt x="352" y="193"/>
                    <a:pt x="326" y="160"/>
                    <a:pt x="312" y="124"/>
                  </a:cubicBezTo>
                  <a:cubicBezTo>
                    <a:pt x="298" y="88"/>
                    <a:pt x="291" y="2"/>
                    <a:pt x="282" y="1"/>
                  </a:cubicBez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6880" y="3208320"/>
              <a:ext cx="762120" cy="762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7320" y="3386160"/>
              <a:ext cx="2955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757080" y="3485880"/>
              <a:ext cx="549000" cy="215640"/>
            </a:xfrm>
            <a:custGeom>
              <a:avLst/>
              <a:gdLst>
                <a:gd name="textAreaLeft" fmla="*/ 75600 w 549000"/>
                <a:gd name="textAreaRight" fmla="*/ 473400 w 549000"/>
                <a:gd name="textAreaTop" fmla="*/ 29520 h 215640"/>
                <a:gd name="textAreaBottom" fmla="*/ 1861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76" y="21600"/>
                  </a:lnTo>
                  <a:lnTo>
                    <a:pt x="22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3325680"/>
              <a:ext cx="74520" cy="54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15238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5486400"/>
            <a:ext cx="15238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5486400"/>
            <a:ext cx="15238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4191120"/>
            <a:ext cx="152388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5486400"/>
            <a:ext cx="152424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209680"/>
            <a:ext cx="64767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 OIL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72428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72428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72428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4114800"/>
            <a:ext cx="380880" cy="5335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2743200"/>
            <a:ext cx="952200" cy="1292040"/>
            <a:chOff x="838080" y="2743200"/>
            <a:chExt cx="952200" cy="1292040"/>
          </a:xfrm>
        </p:grpSpPr>
        <p:sp>
          <p:nvSpPr>
            <p:cNvPr id="152" name=""/>
            <p:cNvSpPr/>
            <p:nvPr/>
          </p:nvSpPr>
          <p:spPr>
            <a:xfrm>
              <a:off x="887040" y="2743200"/>
              <a:ext cx="903240" cy="1292040"/>
            </a:xfrm>
            <a:custGeom>
              <a:avLst/>
              <a:gdLst/>
              <a:ahLst/>
              <a:rect l="l" t="t" r="r" b="b"/>
              <a:pathLst>
                <a:path w="569" h="814">
                  <a:moveTo>
                    <a:pt x="282" y="1"/>
                  </a:moveTo>
                  <a:cubicBezTo>
                    <a:pt x="273" y="0"/>
                    <a:pt x="277" y="80"/>
                    <a:pt x="260" y="119"/>
                  </a:cubicBezTo>
                  <a:cubicBezTo>
                    <a:pt x="243" y="158"/>
                    <a:pt x="208" y="202"/>
                    <a:pt x="180" y="235"/>
                  </a:cubicBezTo>
                  <a:cubicBezTo>
                    <a:pt x="152" y="268"/>
                    <a:pt x="116" y="296"/>
                    <a:pt x="93" y="320"/>
                  </a:cubicBezTo>
                  <a:cubicBezTo>
                    <a:pt x="70" y="344"/>
                    <a:pt x="58" y="357"/>
                    <a:pt x="45" y="377"/>
                  </a:cubicBezTo>
                  <a:cubicBezTo>
                    <a:pt x="32" y="397"/>
                    <a:pt x="21" y="422"/>
                    <a:pt x="14" y="442"/>
                  </a:cubicBezTo>
                  <a:cubicBezTo>
                    <a:pt x="7" y="462"/>
                    <a:pt x="4" y="481"/>
                    <a:pt x="2" y="500"/>
                  </a:cubicBezTo>
                  <a:cubicBezTo>
                    <a:pt x="0" y="519"/>
                    <a:pt x="1" y="535"/>
                    <a:pt x="3" y="554"/>
                  </a:cubicBezTo>
                  <a:cubicBezTo>
                    <a:pt x="5" y="573"/>
                    <a:pt x="5" y="593"/>
                    <a:pt x="12" y="613"/>
                  </a:cubicBezTo>
                  <a:cubicBezTo>
                    <a:pt x="19" y="633"/>
                    <a:pt x="32" y="657"/>
                    <a:pt x="44" y="676"/>
                  </a:cubicBezTo>
                  <a:cubicBezTo>
                    <a:pt x="56" y="695"/>
                    <a:pt x="67" y="711"/>
                    <a:pt x="83" y="727"/>
                  </a:cubicBezTo>
                  <a:cubicBezTo>
                    <a:pt x="99" y="743"/>
                    <a:pt x="121" y="763"/>
                    <a:pt x="141" y="775"/>
                  </a:cubicBezTo>
                  <a:cubicBezTo>
                    <a:pt x="161" y="787"/>
                    <a:pt x="180" y="796"/>
                    <a:pt x="206" y="802"/>
                  </a:cubicBezTo>
                  <a:cubicBezTo>
                    <a:pt x="232" y="808"/>
                    <a:pt x="266" y="814"/>
                    <a:pt x="296" y="812"/>
                  </a:cubicBezTo>
                  <a:cubicBezTo>
                    <a:pt x="326" y="810"/>
                    <a:pt x="360" y="802"/>
                    <a:pt x="386" y="793"/>
                  </a:cubicBezTo>
                  <a:cubicBezTo>
                    <a:pt x="412" y="784"/>
                    <a:pt x="434" y="770"/>
                    <a:pt x="455" y="755"/>
                  </a:cubicBezTo>
                  <a:cubicBezTo>
                    <a:pt x="476" y="740"/>
                    <a:pt x="494" y="721"/>
                    <a:pt x="509" y="701"/>
                  </a:cubicBezTo>
                  <a:cubicBezTo>
                    <a:pt x="524" y="681"/>
                    <a:pt x="536" y="659"/>
                    <a:pt x="545" y="637"/>
                  </a:cubicBezTo>
                  <a:cubicBezTo>
                    <a:pt x="554" y="615"/>
                    <a:pt x="563" y="594"/>
                    <a:pt x="566" y="568"/>
                  </a:cubicBezTo>
                  <a:cubicBezTo>
                    <a:pt x="569" y="542"/>
                    <a:pt x="568" y="508"/>
                    <a:pt x="563" y="481"/>
                  </a:cubicBezTo>
                  <a:cubicBezTo>
                    <a:pt x="558" y="454"/>
                    <a:pt x="549" y="429"/>
                    <a:pt x="536" y="406"/>
                  </a:cubicBezTo>
                  <a:cubicBezTo>
                    <a:pt x="523" y="383"/>
                    <a:pt x="504" y="361"/>
                    <a:pt x="486" y="341"/>
                  </a:cubicBezTo>
                  <a:cubicBezTo>
                    <a:pt x="468" y="321"/>
                    <a:pt x="445" y="306"/>
                    <a:pt x="426" y="286"/>
                  </a:cubicBezTo>
                  <a:cubicBezTo>
                    <a:pt x="407" y="266"/>
                    <a:pt x="390" y="247"/>
                    <a:pt x="371" y="220"/>
                  </a:cubicBezTo>
                  <a:cubicBezTo>
                    <a:pt x="352" y="193"/>
                    <a:pt x="326" y="160"/>
                    <a:pt x="312" y="124"/>
                  </a:cubicBezTo>
                  <a:cubicBezTo>
                    <a:pt x="298" y="88"/>
                    <a:pt x="291" y="2"/>
                    <a:pt x="282" y="1"/>
                  </a:cubicBez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56880" y="3208320"/>
              <a:ext cx="762120" cy="762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7320" y="3386160"/>
              <a:ext cx="2955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757080" y="3485880"/>
              <a:ext cx="549000" cy="215640"/>
            </a:xfrm>
            <a:custGeom>
              <a:avLst/>
              <a:gdLst>
                <a:gd name="textAreaLeft" fmla="*/ 75600 w 549000"/>
                <a:gd name="textAreaRight" fmla="*/ 473400 w 549000"/>
                <a:gd name="textAreaTop" fmla="*/ 29520 h 215640"/>
                <a:gd name="textAreaBottom" fmla="*/ 1861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76" y="21600"/>
                  </a:lnTo>
                  <a:lnTo>
                    <a:pt x="22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3325680"/>
              <a:ext cx="74520" cy="54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15238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5486400"/>
            <a:ext cx="15238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5486400"/>
            <a:ext cx="15238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228600"/>
            <a:ext cx="152424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91520" y="4191120"/>
            <a:ext cx="152388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486400"/>
            <a:ext cx="152424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209680"/>
            <a:ext cx="64767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 OIL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72428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137160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72428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72428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44792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4114800"/>
            <a:ext cx="380880" cy="5335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38080" y="2743200"/>
            <a:ext cx="952200" cy="1292040"/>
            <a:chOff x="838080" y="2743200"/>
            <a:chExt cx="952200" cy="1292040"/>
          </a:xfrm>
        </p:grpSpPr>
        <p:sp>
          <p:nvSpPr>
            <p:cNvPr id="172" name=""/>
            <p:cNvSpPr/>
            <p:nvPr/>
          </p:nvSpPr>
          <p:spPr>
            <a:xfrm>
              <a:off x="887040" y="2743200"/>
              <a:ext cx="903240" cy="1292040"/>
            </a:xfrm>
            <a:custGeom>
              <a:avLst/>
              <a:gdLst/>
              <a:ahLst/>
              <a:rect l="l" t="t" r="r" b="b"/>
              <a:pathLst>
                <a:path w="569" h="814">
                  <a:moveTo>
                    <a:pt x="282" y="1"/>
                  </a:moveTo>
                  <a:cubicBezTo>
                    <a:pt x="273" y="0"/>
                    <a:pt x="277" y="80"/>
                    <a:pt x="260" y="119"/>
                  </a:cubicBezTo>
                  <a:cubicBezTo>
                    <a:pt x="243" y="158"/>
                    <a:pt x="208" y="202"/>
                    <a:pt x="180" y="235"/>
                  </a:cubicBezTo>
                  <a:cubicBezTo>
                    <a:pt x="152" y="268"/>
                    <a:pt x="116" y="296"/>
                    <a:pt x="93" y="320"/>
                  </a:cubicBezTo>
                  <a:cubicBezTo>
                    <a:pt x="70" y="344"/>
                    <a:pt x="58" y="357"/>
                    <a:pt x="45" y="377"/>
                  </a:cubicBezTo>
                  <a:cubicBezTo>
                    <a:pt x="32" y="397"/>
                    <a:pt x="21" y="422"/>
                    <a:pt x="14" y="442"/>
                  </a:cubicBezTo>
                  <a:cubicBezTo>
                    <a:pt x="7" y="462"/>
                    <a:pt x="4" y="481"/>
                    <a:pt x="2" y="500"/>
                  </a:cubicBezTo>
                  <a:cubicBezTo>
                    <a:pt x="0" y="519"/>
                    <a:pt x="1" y="535"/>
                    <a:pt x="3" y="554"/>
                  </a:cubicBezTo>
                  <a:cubicBezTo>
                    <a:pt x="5" y="573"/>
                    <a:pt x="5" y="593"/>
                    <a:pt x="12" y="613"/>
                  </a:cubicBezTo>
                  <a:cubicBezTo>
                    <a:pt x="19" y="633"/>
                    <a:pt x="32" y="657"/>
                    <a:pt x="44" y="676"/>
                  </a:cubicBezTo>
                  <a:cubicBezTo>
                    <a:pt x="56" y="695"/>
                    <a:pt x="67" y="711"/>
                    <a:pt x="83" y="727"/>
                  </a:cubicBezTo>
                  <a:cubicBezTo>
                    <a:pt x="99" y="743"/>
                    <a:pt x="121" y="763"/>
                    <a:pt x="141" y="775"/>
                  </a:cubicBezTo>
                  <a:cubicBezTo>
                    <a:pt x="161" y="787"/>
                    <a:pt x="180" y="796"/>
                    <a:pt x="206" y="802"/>
                  </a:cubicBezTo>
                  <a:cubicBezTo>
                    <a:pt x="232" y="808"/>
                    <a:pt x="266" y="814"/>
                    <a:pt x="296" y="812"/>
                  </a:cubicBezTo>
                  <a:cubicBezTo>
                    <a:pt x="326" y="810"/>
                    <a:pt x="360" y="802"/>
                    <a:pt x="386" y="793"/>
                  </a:cubicBezTo>
                  <a:cubicBezTo>
                    <a:pt x="412" y="784"/>
                    <a:pt x="434" y="770"/>
                    <a:pt x="455" y="755"/>
                  </a:cubicBezTo>
                  <a:cubicBezTo>
                    <a:pt x="476" y="740"/>
                    <a:pt x="494" y="721"/>
                    <a:pt x="509" y="701"/>
                  </a:cubicBezTo>
                  <a:cubicBezTo>
                    <a:pt x="524" y="681"/>
                    <a:pt x="536" y="659"/>
                    <a:pt x="545" y="637"/>
                  </a:cubicBezTo>
                  <a:cubicBezTo>
                    <a:pt x="554" y="615"/>
                    <a:pt x="563" y="594"/>
                    <a:pt x="566" y="568"/>
                  </a:cubicBezTo>
                  <a:cubicBezTo>
                    <a:pt x="569" y="542"/>
                    <a:pt x="568" y="508"/>
                    <a:pt x="563" y="481"/>
                  </a:cubicBezTo>
                  <a:cubicBezTo>
                    <a:pt x="558" y="454"/>
                    <a:pt x="549" y="429"/>
                    <a:pt x="536" y="406"/>
                  </a:cubicBezTo>
                  <a:cubicBezTo>
                    <a:pt x="523" y="383"/>
                    <a:pt x="504" y="361"/>
                    <a:pt x="486" y="341"/>
                  </a:cubicBezTo>
                  <a:cubicBezTo>
                    <a:pt x="468" y="321"/>
                    <a:pt x="445" y="306"/>
                    <a:pt x="426" y="286"/>
                  </a:cubicBezTo>
                  <a:cubicBezTo>
                    <a:pt x="407" y="266"/>
                    <a:pt x="390" y="247"/>
                    <a:pt x="371" y="220"/>
                  </a:cubicBezTo>
                  <a:cubicBezTo>
                    <a:pt x="352" y="193"/>
                    <a:pt x="326" y="160"/>
                    <a:pt x="312" y="124"/>
                  </a:cubicBezTo>
                  <a:cubicBezTo>
                    <a:pt x="298" y="88"/>
                    <a:pt x="291" y="2"/>
                    <a:pt x="282" y="1"/>
                  </a:cubicBez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6880" y="3208320"/>
              <a:ext cx="762120" cy="762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7320" y="3386160"/>
              <a:ext cx="2955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757080" y="3485880"/>
              <a:ext cx="549000" cy="215640"/>
            </a:xfrm>
            <a:custGeom>
              <a:avLst/>
              <a:gdLst>
                <a:gd name="textAreaLeft" fmla="*/ 75600 w 549000"/>
                <a:gd name="textAreaRight" fmla="*/ 473400 w 549000"/>
                <a:gd name="textAreaTop" fmla="*/ 29520 h 215640"/>
                <a:gd name="textAreaBottom" fmla="*/ 1861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76" y="21600"/>
                  </a:lnTo>
                  <a:lnTo>
                    <a:pt x="22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3325680"/>
              <a:ext cx="74520" cy="54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5880" y="528480"/>
            <a:ext cx="757224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grid_00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3276720" y="1219320"/>
            <a:ext cx="2285280" cy="2666160"/>
            <a:chOff x="3276720" y="1219320"/>
            <a:chExt cx="2285280" cy="2666160"/>
          </a:xfrm>
        </p:grpSpPr>
        <p:sp>
          <p:nvSpPr>
            <p:cNvPr id="180" name=""/>
            <p:cNvSpPr/>
            <p:nvPr/>
          </p:nvSpPr>
          <p:spPr>
            <a:xfrm>
              <a:off x="3394080" y="1219320"/>
              <a:ext cx="2167920" cy="2666160"/>
            </a:xfrm>
            <a:custGeom>
              <a:avLst/>
              <a:gdLst/>
              <a:ahLst/>
              <a:rect l="l" t="t" r="r" b="b"/>
              <a:pathLst>
                <a:path w="569" h="814">
                  <a:moveTo>
                    <a:pt x="282" y="1"/>
                  </a:moveTo>
                  <a:cubicBezTo>
                    <a:pt x="273" y="0"/>
                    <a:pt x="277" y="80"/>
                    <a:pt x="260" y="119"/>
                  </a:cubicBezTo>
                  <a:cubicBezTo>
                    <a:pt x="243" y="158"/>
                    <a:pt x="208" y="202"/>
                    <a:pt x="180" y="235"/>
                  </a:cubicBezTo>
                  <a:cubicBezTo>
                    <a:pt x="152" y="268"/>
                    <a:pt x="116" y="296"/>
                    <a:pt x="93" y="320"/>
                  </a:cubicBezTo>
                  <a:cubicBezTo>
                    <a:pt x="70" y="344"/>
                    <a:pt x="58" y="357"/>
                    <a:pt x="45" y="377"/>
                  </a:cubicBezTo>
                  <a:cubicBezTo>
                    <a:pt x="32" y="397"/>
                    <a:pt x="21" y="422"/>
                    <a:pt x="14" y="442"/>
                  </a:cubicBezTo>
                  <a:cubicBezTo>
                    <a:pt x="7" y="462"/>
                    <a:pt x="4" y="481"/>
                    <a:pt x="2" y="500"/>
                  </a:cubicBezTo>
                  <a:cubicBezTo>
                    <a:pt x="0" y="519"/>
                    <a:pt x="1" y="535"/>
                    <a:pt x="3" y="554"/>
                  </a:cubicBezTo>
                  <a:cubicBezTo>
                    <a:pt x="5" y="573"/>
                    <a:pt x="5" y="593"/>
                    <a:pt x="12" y="613"/>
                  </a:cubicBezTo>
                  <a:cubicBezTo>
                    <a:pt x="19" y="633"/>
                    <a:pt x="32" y="657"/>
                    <a:pt x="44" y="676"/>
                  </a:cubicBezTo>
                  <a:cubicBezTo>
                    <a:pt x="56" y="695"/>
                    <a:pt x="67" y="711"/>
                    <a:pt x="83" y="727"/>
                  </a:cubicBezTo>
                  <a:cubicBezTo>
                    <a:pt x="99" y="743"/>
                    <a:pt x="121" y="763"/>
                    <a:pt x="141" y="775"/>
                  </a:cubicBezTo>
                  <a:cubicBezTo>
                    <a:pt x="161" y="787"/>
                    <a:pt x="180" y="796"/>
                    <a:pt x="206" y="802"/>
                  </a:cubicBezTo>
                  <a:cubicBezTo>
                    <a:pt x="232" y="808"/>
                    <a:pt x="266" y="814"/>
                    <a:pt x="296" y="812"/>
                  </a:cubicBezTo>
                  <a:cubicBezTo>
                    <a:pt x="326" y="810"/>
                    <a:pt x="360" y="802"/>
                    <a:pt x="386" y="793"/>
                  </a:cubicBezTo>
                  <a:cubicBezTo>
                    <a:pt x="412" y="784"/>
                    <a:pt x="434" y="770"/>
                    <a:pt x="455" y="755"/>
                  </a:cubicBezTo>
                  <a:cubicBezTo>
                    <a:pt x="476" y="740"/>
                    <a:pt x="494" y="721"/>
                    <a:pt x="509" y="701"/>
                  </a:cubicBezTo>
                  <a:cubicBezTo>
                    <a:pt x="524" y="681"/>
                    <a:pt x="536" y="659"/>
                    <a:pt x="545" y="637"/>
                  </a:cubicBezTo>
                  <a:cubicBezTo>
                    <a:pt x="554" y="615"/>
                    <a:pt x="563" y="594"/>
                    <a:pt x="566" y="568"/>
                  </a:cubicBezTo>
                  <a:cubicBezTo>
                    <a:pt x="569" y="542"/>
                    <a:pt x="568" y="508"/>
                    <a:pt x="563" y="481"/>
                  </a:cubicBezTo>
                  <a:cubicBezTo>
                    <a:pt x="558" y="454"/>
                    <a:pt x="549" y="429"/>
                    <a:pt x="536" y="406"/>
                  </a:cubicBezTo>
                  <a:cubicBezTo>
                    <a:pt x="523" y="383"/>
                    <a:pt x="504" y="361"/>
                    <a:pt x="486" y="341"/>
                  </a:cubicBezTo>
                  <a:cubicBezTo>
                    <a:pt x="468" y="321"/>
                    <a:pt x="445" y="306"/>
                    <a:pt x="426" y="286"/>
                  </a:cubicBezTo>
                  <a:cubicBezTo>
                    <a:pt x="407" y="266"/>
                    <a:pt x="390" y="247"/>
                    <a:pt x="371" y="220"/>
                  </a:cubicBezTo>
                  <a:cubicBezTo>
                    <a:pt x="352" y="193"/>
                    <a:pt x="326" y="160"/>
                    <a:pt x="312" y="124"/>
                  </a:cubicBezTo>
                  <a:cubicBezTo>
                    <a:pt x="298" y="88"/>
                    <a:pt x="291" y="2"/>
                    <a:pt x="282" y="1"/>
                  </a:cubicBez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1840" y="2179080"/>
              <a:ext cx="1829160" cy="157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18680" y="2545920"/>
              <a:ext cx="709200" cy="87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3174480" y="2716200"/>
              <a:ext cx="1132920" cy="517320"/>
            </a:xfrm>
            <a:custGeom>
              <a:avLst/>
              <a:gdLst>
                <a:gd name="textAreaLeft" fmla="*/ 156600 w 1132920"/>
                <a:gd name="textAreaRight" fmla="*/ 976320 w 1132920"/>
                <a:gd name="textAreaTop" fmla="*/ 71280 h 517320"/>
                <a:gd name="textAreaBottom" fmla="*/ 44604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76" y="21600"/>
                  </a:lnTo>
                  <a:lnTo>
                    <a:pt x="22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76720" y="2421360"/>
              <a:ext cx="178560" cy="113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400800" y="2133720"/>
            <a:ext cx="914400" cy="16002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572000"/>
            <a:ext cx="16761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876920"/>
            <a:ext cx="167652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5257800"/>
            <a:ext cx="16765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0"/>
            <a:ext cx="2133360" cy="175248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600200"/>
            <a:ext cx="2133720" cy="175248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440" y="345960"/>
            <a:ext cx="7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4800600"/>
            <a:ext cx="16761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5105520"/>
            <a:ext cx="167652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5410080"/>
            <a:ext cx="16765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0093400">
            <a:off x="5257800" y="1295280"/>
            <a:ext cx="1752480" cy="304920"/>
          </a:xfrm>
          <a:prstGeom prst="leftRightArrow">
            <a:avLst>
              <a:gd name="adj1" fmla="val 50000"/>
              <a:gd name="adj2" fmla="val 1144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478600">
            <a:off x="2895120" y="175248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9666800">
            <a:off x="2666520" y="3809520"/>
            <a:ext cx="685800" cy="457200"/>
          </a:xfrm>
          <a:prstGeom prst="leftArrow">
            <a:avLst>
              <a:gd name="adj1" fmla="val 40620"/>
              <a:gd name="adj2" fmla="val 28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2460600">
            <a:off x="5105520" y="4038480"/>
            <a:ext cx="761760" cy="533520"/>
          </a:xfrm>
          <a:prstGeom prst="leftArrow">
            <a:avLst>
              <a:gd name="adj1" fmla="val 40620"/>
              <a:gd name="adj2" fmla="val 267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2514600"/>
            <a:ext cx="685800" cy="457200"/>
          </a:xfrm>
          <a:prstGeom prst="leftArrow">
            <a:avLst>
              <a:gd name="adj1" fmla="val 40620"/>
              <a:gd name="adj2" fmla="val 28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0827000">
            <a:off x="5562360" y="3276360"/>
            <a:ext cx="685800" cy="457200"/>
          </a:xfrm>
          <a:prstGeom prst="leftArrow">
            <a:avLst>
              <a:gd name="adj1" fmla="val 40620"/>
              <a:gd name="adj2" fmla="val 28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we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8320" y="1905120"/>
            <a:ext cx="4964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ing cons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Ch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15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Q2 / 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missio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Q2 / 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914400" y="2895480"/>
            <a:ext cx="952200" cy="1292040"/>
            <a:chOff x="914400" y="2895480"/>
            <a:chExt cx="952200" cy="1292040"/>
          </a:xfrm>
        </p:grpSpPr>
        <p:sp>
          <p:nvSpPr>
            <p:cNvPr id="205" name=""/>
            <p:cNvSpPr/>
            <p:nvPr/>
          </p:nvSpPr>
          <p:spPr>
            <a:xfrm>
              <a:off x="963360" y="2895480"/>
              <a:ext cx="903240" cy="1292040"/>
            </a:xfrm>
            <a:custGeom>
              <a:avLst/>
              <a:gdLst/>
              <a:ahLst/>
              <a:rect l="l" t="t" r="r" b="b"/>
              <a:pathLst>
                <a:path w="569" h="814">
                  <a:moveTo>
                    <a:pt x="282" y="1"/>
                  </a:moveTo>
                  <a:cubicBezTo>
                    <a:pt x="273" y="0"/>
                    <a:pt x="277" y="80"/>
                    <a:pt x="260" y="119"/>
                  </a:cubicBezTo>
                  <a:cubicBezTo>
                    <a:pt x="243" y="158"/>
                    <a:pt x="208" y="202"/>
                    <a:pt x="180" y="235"/>
                  </a:cubicBezTo>
                  <a:cubicBezTo>
                    <a:pt x="152" y="268"/>
                    <a:pt x="116" y="296"/>
                    <a:pt x="93" y="320"/>
                  </a:cubicBezTo>
                  <a:cubicBezTo>
                    <a:pt x="70" y="344"/>
                    <a:pt x="58" y="357"/>
                    <a:pt x="45" y="377"/>
                  </a:cubicBezTo>
                  <a:cubicBezTo>
                    <a:pt x="32" y="397"/>
                    <a:pt x="21" y="422"/>
                    <a:pt x="14" y="442"/>
                  </a:cubicBezTo>
                  <a:cubicBezTo>
                    <a:pt x="7" y="462"/>
                    <a:pt x="4" y="481"/>
                    <a:pt x="2" y="500"/>
                  </a:cubicBezTo>
                  <a:cubicBezTo>
                    <a:pt x="0" y="519"/>
                    <a:pt x="1" y="535"/>
                    <a:pt x="3" y="554"/>
                  </a:cubicBezTo>
                  <a:cubicBezTo>
                    <a:pt x="5" y="573"/>
                    <a:pt x="5" y="593"/>
                    <a:pt x="12" y="613"/>
                  </a:cubicBezTo>
                  <a:cubicBezTo>
                    <a:pt x="19" y="633"/>
                    <a:pt x="32" y="657"/>
                    <a:pt x="44" y="676"/>
                  </a:cubicBezTo>
                  <a:cubicBezTo>
                    <a:pt x="56" y="695"/>
                    <a:pt x="67" y="711"/>
                    <a:pt x="83" y="727"/>
                  </a:cubicBezTo>
                  <a:cubicBezTo>
                    <a:pt x="99" y="743"/>
                    <a:pt x="121" y="763"/>
                    <a:pt x="141" y="775"/>
                  </a:cubicBezTo>
                  <a:cubicBezTo>
                    <a:pt x="161" y="787"/>
                    <a:pt x="180" y="796"/>
                    <a:pt x="206" y="802"/>
                  </a:cubicBezTo>
                  <a:cubicBezTo>
                    <a:pt x="232" y="808"/>
                    <a:pt x="266" y="814"/>
                    <a:pt x="296" y="812"/>
                  </a:cubicBezTo>
                  <a:cubicBezTo>
                    <a:pt x="326" y="810"/>
                    <a:pt x="360" y="802"/>
                    <a:pt x="386" y="793"/>
                  </a:cubicBezTo>
                  <a:cubicBezTo>
                    <a:pt x="412" y="784"/>
                    <a:pt x="434" y="770"/>
                    <a:pt x="455" y="755"/>
                  </a:cubicBezTo>
                  <a:cubicBezTo>
                    <a:pt x="476" y="740"/>
                    <a:pt x="494" y="721"/>
                    <a:pt x="509" y="701"/>
                  </a:cubicBezTo>
                  <a:cubicBezTo>
                    <a:pt x="524" y="681"/>
                    <a:pt x="536" y="659"/>
                    <a:pt x="545" y="637"/>
                  </a:cubicBezTo>
                  <a:cubicBezTo>
                    <a:pt x="554" y="615"/>
                    <a:pt x="563" y="594"/>
                    <a:pt x="566" y="568"/>
                  </a:cubicBezTo>
                  <a:cubicBezTo>
                    <a:pt x="569" y="542"/>
                    <a:pt x="568" y="508"/>
                    <a:pt x="563" y="481"/>
                  </a:cubicBezTo>
                  <a:cubicBezTo>
                    <a:pt x="558" y="454"/>
                    <a:pt x="549" y="429"/>
                    <a:pt x="536" y="406"/>
                  </a:cubicBezTo>
                  <a:cubicBezTo>
                    <a:pt x="523" y="383"/>
                    <a:pt x="504" y="361"/>
                    <a:pt x="486" y="341"/>
                  </a:cubicBezTo>
                  <a:cubicBezTo>
                    <a:pt x="468" y="321"/>
                    <a:pt x="445" y="306"/>
                    <a:pt x="426" y="286"/>
                  </a:cubicBezTo>
                  <a:cubicBezTo>
                    <a:pt x="407" y="266"/>
                    <a:pt x="390" y="247"/>
                    <a:pt x="371" y="220"/>
                  </a:cubicBezTo>
                  <a:cubicBezTo>
                    <a:pt x="352" y="193"/>
                    <a:pt x="326" y="160"/>
                    <a:pt x="312" y="124"/>
                  </a:cubicBezTo>
                  <a:cubicBezTo>
                    <a:pt x="298" y="88"/>
                    <a:pt x="291" y="2"/>
                    <a:pt x="282" y="1"/>
                  </a:cubicBez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33200" y="3360600"/>
              <a:ext cx="762120" cy="762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23640" y="3538440"/>
              <a:ext cx="2955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833400" y="3638160"/>
              <a:ext cx="549000" cy="215640"/>
            </a:xfrm>
            <a:custGeom>
              <a:avLst/>
              <a:gdLst>
                <a:gd name="textAreaLeft" fmla="*/ 75600 w 549000"/>
                <a:gd name="textAreaRight" fmla="*/ 473400 w 549000"/>
                <a:gd name="textAreaTop" fmla="*/ 29520 h 215640"/>
                <a:gd name="textAreaBottom" fmla="*/ 1861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76" y="21600"/>
                  </a:lnTo>
                  <a:lnTo>
                    <a:pt x="22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3477960"/>
              <a:ext cx="74520" cy="54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eGO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UK Oil Por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E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Digital certific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1828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kichener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172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hang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EU report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technology (inflexi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data submission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grate with Por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reporting (NPD/M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6236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676520" y="0"/>
          <a:ext cx="5715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0"/>
                    <a:ext cx="5715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ill it mean to you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nsents from D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ed to verify meta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will be rejected if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sheet con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fortune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105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certif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1441440" y="1219320"/>
          <a:ext cx="6261120" cy="49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1440" y="1219320"/>
                    <a:ext cx="626112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969920" y="152280"/>
            <a:ext cx="520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Valid Digital Signature</a:t>
            </a:r>
            <a:r>
              <a:rPr b="1" i="1" lang="en-US" sz="3600" spc="-1" strike="noStrike">
                <a:solidFill>
                  <a:srgbClr val="ffffff"/>
                </a:solidFill>
                <a:latin typeface="Futur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grid_00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072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3276720" y="1219320"/>
            <a:ext cx="2285280" cy="2666160"/>
            <a:chOff x="3276720" y="1219320"/>
            <a:chExt cx="2285280" cy="2666160"/>
          </a:xfrm>
        </p:grpSpPr>
        <p:sp>
          <p:nvSpPr>
            <p:cNvPr id="234" name=""/>
            <p:cNvSpPr/>
            <p:nvPr/>
          </p:nvSpPr>
          <p:spPr>
            <a:xfrm>
              <a:off x="3394080" y="1219320"/>
              <a:ext cx="2167920" cy="2666160"/>
            </a:xfrm>
            <a:custGeom>
              <a:avLst/>
              <a:gdLst/>
              <a:ahLst/>
              <a:rect l="l" t="t" r="r" b="b"/>
              <a:pathLst>
                <a:path w="569" h="814">
                  <a:moveTo>
                    <a:pt x="282" y="1"/>
                  </a:moveTo>
                  <a:cubicBezTo>
                    <a:pt x="273" y="0"/>
                    <a:pt x="277" y="80"/>
                    <a:pt x="260" y="119"/>
                  </a:cubicBezTo>
                  <a:cubicBezTo>
                    <a:pt x="243" y="158"/>
                    <a:pt x="208" y="202"/>
                    <a:pt x="180" y="235"/>
                  </a:cubicBezTo>
                  <a:cubicBezTo>
                    <a:pt x="152" y="268"/>
                    <a:pt x="116" y="296"/>
                    <a:pt x="93" y="320"/>
                  </a:cubicBezTo>
                  <a:cubicBezTo>
                    <a:pt x="70" y="344"/>
                    <a:pt x="58" y="357"/>
                    <a:pt x="45" y="377"/>
                  </a:cubicBezTo>
                  <a:cubicBezTo>
                    <a:pt x="32" y="397"/>
                    <a:pt x="21" y="422"/>
                    <a:pt x="14" y="442"/>
                  </a:cubicBezTo>
                  <a:cubicBezTo>
                    <a:pt x="7" y="462"/>
                    <a:pt x="4" y="481"/>
                    <a:pt x="2" y="500"/>
                  </a:cubicBezTo>
                  <a:cubicBezTo>
                    <a:pt x="0" y="519"/>
                    <a:pt x="1" y="535"/>
                    <a:pt x="3" y="554"/>
                  </a:cubicBezTo>
                  <a:cubicBezTo>
                    <a:pt x="5" y="573"/>
                    <a:pt x="5" y="593"/>
                    <a:pt x="12" y="613"/>
                  </a:cubicBezTo>
                  <a:cubicBezTo>
                    <a:pt x="19" y="633"/>
                    <a:pt x="32" y="657"/>
                    <a:pt x="44" y="676"/>
                  </a:cubicBezTo>
                  <a:cubicBezTo>
                    <a:pt x="56" y="695"/>
                    <a:pt x="67" y="711"/>
                    <a:pt x="83" y="727"/>
                  </a:cubicBezTo>
                  <a:cubicBezTo>
                    <a:pt x="99" y="743"/>
                    <a:pt x="121" y="763"/>
                    <a:pt x="141" y="775"/>
                  </a:cubicBezTo>
                  <a:cubicBezTo>
                    <a:pt x="161" y="787"/>
                    <a:pt x="180" y="796"/>
                    <a:pt x="206" y="802"/>
                  </a:cubicBezTo>
                  <a:cubicBezTo>
                    <a:pt x="232" y="808"/>
                    <a:pt x="266" y="814"/>
                    <a:pt x="296" y="812"/>
                  </a:cubicBezTo>
                  <a:cubicBezTo>
                    <a:pt x="326" y="810"/>
                    <a:pt x="360" y="802"/>
                    <a:pt x="386" y="793"/>
                  </a:cubicBezTo>
                  <a:cubicBezTo>
                    <a:pt x="412" y="784"/>
                    <a:pt x="434" y="770"/>
                    <a:pt x="455" y="755"/>
                  </a:cubicBezTo>
                  <a:cubicBezTo>
                    <a:pt x="476" y="740"/>
                    <a:pt x="494" y="721"/>
                    <a:pt x="509" y="701"/>
                  </a:cubicBezTo>
                  <a:cubicBezTo>
                    <a:pt x="524" y="681"/>
                    <a:pt x="536" y="659"/>
                    <a:pt x="545" y="637"/>
                  </a:cubicBezTo>
                  <a:cubicBezTo>
                    <a:pt x="554" y="615"/>
                    <a:pt x="563" y="594"/>
                    <a:pt x="566" y="568"/>
                  </a:cubicBezTo>
                  <a:cubicBezTo>
                    <a:pt x="569" y="542"/>
                    <a:pt x="568" y="508"/>
                    <a:pt x="563" y="481"/>
                  </a:cubicBezTo>
                  <a:cubicBezTo>
                    <a:pt x="558" y="454"/>
                    <a:pt x="549" y="429"/>
                    <a:pt x="536" y="406"/>
                  </a:cubicBezTo>
                  <a:cubicBezTo>
                    <a:pt x="523" y="383"/>
                    <a:pt x="504" y="361"/>
                    <a:pt x="486" y="341"/>
                  </a:cubicBezTo>
                  <a:cubicBezTo>
                    <a:pt x="468" y="321"/>
                    <a:pt x="445" y="306"/>
                    <a:pt x="426" y="286"/>
                  </a:cubicBezTo>
                  <a:cubicBezTo>
                    <a:pt x="407" y="266"/>
                    <a:pt x="390" y="247"/>
                    <a:pt x="371" y="220"/>
                  </a:cubicBezTo>
                  <a:cubicBezTo>
                    <a:pt x="352" y="193"/>
                    <a:pt x="326" y="160"/>
                    <a:pt x="312" y="124"/>
                  </a:cubicBezTo>
                  <a:cubicBezTo>
                    <a:pt x="298" y="88"/>
                    <a:pt x="291" y="2"/>
                    <a:pt x="282" y="1"/>
                  </a:cubicBez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1840" y="2179080"/>
              <a:ext cx="1829160" cy="157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18680" y="2545920"/>
              <a:ext cx="709200" cy="87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3174480" y="2716200"/>
              <a:ext cx="1132920" cy="517320"/>
            </a:xfrm>
            <a:custGeom>
              <a:avLst/>
              <a:gdLst>
                <a:gd name="textAreaLeft" fmla="*/ 156600 w 1132920"/>
                <a:gd name="textAreaRight" fmla="*/ 976320 w 1132920"/>
                <a:gd name="textAreaTop" fmla="*/ 71280 h 517320"/>
                <a:gd name="textAreaBottom" fmla="*/ 44604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76" y="21600"/>
                  </a:lnTo>
                  <a:lnTo>
                    <a:pt x="22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76720" y="2421360"/>
              <a:ext cx="178560" cy="1130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400800" y="2133720"/>
            <a:ext cx="914400" cy="16002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4572000"/>
            <a:ext cx="16761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876920"/>
            <a:ext cx="167652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257800"/>
            <a:ext cx="16765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0"/>
            <a:ext cx="2133360" cy="175248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600200"/>
            <a:ext cx="2133720" cy="175248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440" y="345960"/>
            <a:ext cx="7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4800600"/>
            <a:ext cx="16761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43600" y="5105520"/>
            <a:ext cx="167652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410080"/>
            <a:ext cx="16765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152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20093400">
            <a:off x="5257800" y="1295280"/>
            <a:ext cx="1752480" cy="304920"/>
          </a:xfrm>
          <a:prstGeom prst="leftRightArrow">
            <a:avLst>
              <a:gd name="adj1" fmla="val 50000"/>
              <a:gd name="adj2" fmla="val 1144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478600">
            <a:off x="2895120" y="175248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9666800">
            <a:off x="2666520" y="3809520"/>
            <a:ext cx="685800" cy="457200"/>
          </a:xfrm>
          <a:prstGeom prst="leftArrow">
            <a:avLst>
              <a:gd name="adj1" fmla="val 40620"/>
              <a:gd name="adj2" fmla="val 28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2460600">
            <a:off x="5105520" y="4038480"/>
            <a:ext cx="761760" cy="533520"/>
          </a:xfrm>
          <a:prstGeom prst="leftArrow">
            <a:avLst>
              <a:gd name="adj1" fmla="val 40620"/>
              <a:gd name="adj2" fmla="val 267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514600"/>
            <a:ext cx="685800" cy="457200"/>
          </a:xfrm>
          <a:prstGeom prst="leftArrow">
            <a:avLst>
              <a:gd name="adj1" fmla="val 40620"/>
              <a:gd name="adj2" fmla="val 28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0827000">
            <a:off x="5562360" y="3276360"/>
            <a:ext cx="685800" cy="457200"/>
          </a:xfrm>
          <a:prstGeom prst="leftArrow">
            <a:avLst>
              <a:gd name="adj1" fmla="val 40620"/>
              <a:gd name="adj2" fmla="val 28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29160" y="2128680"/>
            <a:ext cx="282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3333cc"/>
                </a:solidFill>
                <a:latin typeface="Times New Roman"/>
              </a:rPr>
              <a:t>eGov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0880" y="838080"/>
            <a:ext cx="137160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2590920"/>
            <a:ext cx="2514600" cy="266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Oil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2895480"/>
            <a:ext cx="182880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152280" y="4495680"/>
            <a:ext cx="198108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4495680"/>
            <a:ext cx="914400" cy="4572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36576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96600">
            <a:off x="-495720" y="2625840"/>
            <a:ext cx="2360520" cy="763560"/>
          </a:xfrm>
          <a:prstGeom prst="leftRightArrow">
            <a:avLst>
              <a:gd name="adj1" fmla="val 67287"/>
              <a:gd name="adj2" fmla="val 651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640" y="24415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gi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0280" y="7048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TI delivering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838080"/>
            <a:ext cx="137160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2590920"/>
            <a:ext cx="2514600" cy="266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 Oil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2895480"/>
            <a:ext cx="182880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152280" y="4495680"/>
            <a:ext cx="198108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4495680"/>
            <a:ext cx="914400" cy="4572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15000" y="36576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343000">
            <a:off x="-495360" y="2625840"/>
            <a:ext cx="2360520" cy="763560"/>
          </a:xfrm>
          <a:prstGeom prst="leftRightArrow">
            <a:avLst>
              <a:gd name="adj1" fmla="val 50000"/>
              <a:gd name="adj2" fmla="val 615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00080" y="434340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gi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39440" y="558720"/>
            <a:ext cx="52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TI receiving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09640" y="2282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DTI’s current thought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ceipt of documents “just in tim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pdf format (look like “real” docum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gned” with appropriate as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talogued to international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0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TI have three areas that require authent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ce the right person is logged onto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rting legal documents out of the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eiving documents via the Portal from a known sourc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 satisfy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 Communications Act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D0008 – legally admissible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the t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ic Business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 Government - 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8640" y="2743200"/>
            <a:ext cx="831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uidelines availab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002  25% of business undertaken electron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004  Government goes paperless 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005  100% of business undertaken electron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ease contact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9120" y="1793880"/>
            <a:ext cx="475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p, testing or digital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 Sand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207 215 52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rk.sanders@dti.gsi.gov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wart Robinson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207 215 5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tewart.robinson@dti.gsi.gov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.og.dti.gov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1143000"/>
            <a:ext cx="6782040" cy="4572000"/>
          </a:xfrm>
          <a:prstGeom prst="wedgeRoundRectCallout">
            <a:avLst>
              <a:gd name="adj1" fmla="val -19523"/>
              <a:gd name="adj2" fmla="val 4399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1450800"/>
            <a:ext cx="579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Gov is about more than having a basic internet presence; it is about developing transactional web sites that deliver better services and improve efficienc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7200" y="59436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eGOV role in Oil Indus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sary e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4956_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54896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76720" y="30492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6800" y="1447920"/>
            <a:ext cx="271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f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mis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52280"/>
            <a:ext cx="8229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76720" y="30492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800" y="1447920"/>
            <a:ext cx="271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f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mis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2280"/>
            <a:ext cx="8229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60020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12408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1905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7432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76720" y="30492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6800" y="1447920"/>
            <a:ext cx="271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f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mis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52280"/>
            <a:ext cx="8229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160020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152388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12408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12408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1905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27432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9144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12:07:19Z</dcterms:created>
  <dc:creator>srobinson</dc:creator>
  <dc:description/>
  <dc:language>en-US</dc:language>
  <cp:lastModifiedBy>srobinson</cp:lastModifiedBy>
  <dcterms:modified xsi:type="dcterms:W3CDTF">2003-12-04T15:56:51Z</dcterms:modified>
  <cp:revision>37</cp:revision>
  <dc:subject/>
  <dc:title>XML for Chemicals</dc:title>
</cp:coreProperties>
</file>